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нтегрисане академске студије фармације</a:t>
            </a:r>
            <a:endParaRPr b="0" lang="en-US" sz="36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мет: Енглески јези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авач: Душица Лази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a:t>
            </a:r>
            <a:endParaRPr b="0" lang="en-US" sz="28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евести реченице уз употребу граматичких време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biotics</a:t>
            </a:r>
            <a:endParaRPr b="0" lang="en-US" sz="28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the mechanisms of antibiotic action were not scientifically understood until the late 20</a:t>
            </a:r>
            <a:r>
              <a:rPr b="0" lang="en-US" sz="2000" spc="-1" strike="noStrike" baseline="30000">
                <a:solidFill>
                  <a:srgbClr val="000000"/>
                </a:solidFill>
                <a:latin typeface="Arial"/>
              </a:rPr>
              <a:t>th</a:t>
            </a:r>
            <a:r>
              <a:rPr b="0" lang="en-US" sz="2000" spc="-1" strike="noStrike">
                <a:solidFill>
                  <a:srgbClr val="000000"/>
                </a:solidFill>
                <a:latin typeface="Arial"/>
              </a:rPr>
              <a:t> century, the principle of using organic compounds to fight infection has been known since ancient times. Crude plant extracts were used medicinally for centuries, and there is anecdotal evidence for the use of cheese molds for topical treatment of infection. The first observation of what would now be called an antibiotic effect was made in the 19</a:t>
            </a:r>
            <a:r>
              <a:rPr b="0" lang="en-US" sz="2000" spc="-1" strike="noStrike" baseline="30000">
                <a:solidFill>
                  <a:srgbClr val="000000"/>
                </a:solidFill>
                <a:latin typeface="Arial"/>
              </a:rPr>
              <a:t>th</a:t>
            </a:r>
            <a:r>
              <a:rPr b="0" lang="en-US" sz="2000" spc="-1" strike="noStrike">
                <a:solidFill>
                  <a:srgbClr val="000000"/>
                </a:solidFill>
                <a:latin typeface="Arial"/>
              </a:rPr>
              <a:t> century by French chemist Louis Pasteur, who discovered that certain saprophytic bacteria can kill anthrax bacilli. In the first decade of the 20</a:t>
            </a:r>
            <a:r>
              <a:rPr b="0" lang="en-US" sz="2000" spc="-1" strike="noStrike" baseline="30000">
                <a:solidFill>
                  <a:srgbClr val="000000"/>
                </a:solidFill>
                <a:latin typeface="Arial"/>
              </a:rPr>
              <a:t>th</a:t>
            </a:r>
            <a:r>
              <a:rPr b="0" lang="en-US" sz="2000" spc="-1" strike="noStrike">
                <a:solidFill>
                  <a:srgbClr val="000000"/>
                </a:solidFill>
                <a:latin typeface="Arial"/>
              </a:rPr>
              <a:t> century, German physician and chemist Paul Ehrlich began experimenting with the synthesis of organic compounds that would selectively attack an infecting organism without harming the host organism…..</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rophy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rochae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zy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tridi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phalospor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inoglycos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tracyc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li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phonami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nomycet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 points:</a:t>
            </a:r>
            <a:endParaRPr b="0" lang="en-US" sz="28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icillin as the archetype of antibio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ification of antibio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bearing organisms sensitive to penicill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ortance of antibiotics in surgical procedu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side effects of intermittent dosing with small doses of antibio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similar words to the following:</a:t>
            </a:r>
            <a:endParaRPr b="0" lang="en-US" sz="28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 opposite words to the following:</a:t>
            </a:r>
            <a:endParaRPr b="0" lang="en-US" sz="28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v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meaning of the following:</a:t>
            </a:r>
            <a:endParaRPr b="0" lang="en-US" sz="28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ication of penicill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c compou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rophytic bact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etype of antibio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de eff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following:</a:t>
            </a:r>
            <a:endParaRPr b="0" lang="en-US" sz="28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famous antibiotic 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ntibiotic to be used successfully in the treatment of human disease w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have been developed to treat shingles and chicken po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biotics can be classified according 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as also been used in the treatment or prevention of fungal and protozoal disea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ny antibiotic or medication should be un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short essay:</a:t>
            </a:r>
            <a:endParaRPr b="0" lang="en-US" sz="28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short essay about GREEN PHARM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5-14T11:03:07Z</dcterms:modified>
  <cp:revision>15</cp:revision>
  <dc:subject/>
  <dc:title>Slide 1</dc:title>
</cp:coreProperties>
</file>